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FA78-3740-47AC-AF2D-6FB7E223E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1F05-B031-449F-9C8E-BF540815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28AA-D473-4C52-AA99-741BDB19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5F52-4EC8-4EAB-87B4-AFFF99F06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AA6C-C99E-4B52-AE13-C30F7CAE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D9C5-B613-4CCD-BB6E-14D3F60C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1D97-09F0-494F-B0EA-86817CFC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2C05-EAAC-441F-AD29-84AEDABF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6DC3-7B8E-4EC9-9F88-71D1F138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EB37-D3AC-4028-A6BB-55B4345A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7D15-A22B-400D-999F-B6E2F611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AD7B-D564-4AF7-A6A8-A3AD532D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A171-4128-46A8-B4A8-B3EB7CE7875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918560" cy="29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0000"/>
                </a:solidFill>
                <a:latin typeface="Arial"/>
              </a:rPr>
              <a:t>Sigma solu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Permutations and Comb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52280" y="609480"/>
            <a:ext cx="883944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13. A class of 12 students and a teacher are to go on a class trip.  A car will take four of the party, and the rest will go by bus.  In how many different ways can they all go on the trip i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he teacher must go by b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The teacher is in the bus (fixed) so 8 spots in the bus remai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So we’re selecting 8 of the 12 students to go in the bus with the teac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umber of possible combinations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12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8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(same as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12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for b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 4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he teacher can go by either car or b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br. poss. combos = nbr combos if teacher is in car + if teacher if on 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12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(from (a))                          + 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12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8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(from (b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220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+  4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715 possible combin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Sigma: Ex 8.03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52280" y="609480"/>
            <a:ext cx="883944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14. A buffet restaurant has a selection of six salads, four cold meat platters and seven cooked vegetables.  How many ways are there for a person to choose three salads, two types of cold meat and four vegetab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There are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ways of selecting 3 salads from 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There are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ways of selecting 2 types of cold meat from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There are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7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ways of selecting 4 types of cooked vegetables from 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br poss. selections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 6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7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×   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6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×   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4200 possible choices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Sigma: Ex 8.03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52280" y="6091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5. * (</a:t>
            </a: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Scholarship type problem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In the game of badminton a ‘singles’ match has two players – one against another;   and a doubles match has four players – two players against two 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If eight friends play badminton, how many different doubles and singles matches can be play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umber of possible singles matches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number of possible selections of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2 from 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28 possible singles ma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umber of possible doubles ma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 number of possible selections of 4 from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number of possible doubles games played by each group of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× </a:t>
            </a:r>
            <a:r>
              <a:rPr b="0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/ 2 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210 possible doubles match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i="1" lang="en-NZ" sz="2000" spc="-1" strike="noStrike">
                <a:solidFill>
                  <a:srgbClr val="ff0000"/>
                </a:solidFill>
                <a:latin typeface="Arial"/>
              </a:rPr>
              <a:t>Q:Why divide by 2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Sigma: Ex 8.03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52280" y="213840"/>
            <a:ext cx="883944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5. * (</a:t>
            </a: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Scholarship type problem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In the game of badminton a ‘singles’ match has two players – one against another;   and a doubles match has four players – two players against two 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If eight friends play badminton, how many different doubles and singles matches can be play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umber of possible singles matches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number of possible selections of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2 from 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28 possible singles ma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umber of possible doubles ma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 number of possible selections of 4 from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number of possible doubles </a:t>
            </a:r>
            <a:r>
              <a:rPr b="0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games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played by each group of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× </a:t>
            </a:r>
            <a:r>
              <a:rPr b="0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/ 2 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210 possible doubles match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i="1" lang="en-NZ" sz="2000" spc="-1" strike="noStrike">
                <a:solidFill>
                  <a:srgbClr val="ff0000"/>
                </a:solidFill>
                <a:latin typeface="Arial"/>
              </a:rPr>
              <a:t>Q:Why divide by 2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52280" y="213840"/>
            <a:ext cx="883944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5. * (</a:t>
            </a: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Scholarship type problem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In the game of badminton a ‘singles’ match has two players – one against another;   and a doubles match has four players – two players against two 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If eight friends play badminton, how many different doubles and singles matches can be play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umber of possible singles matches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number of possible selections of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2 from 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28 possible singles ma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umber of possible doubles ma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 number of possible selections of 4 from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number of possible doubles </a:t>
            </a:r>
            <a:r>
              <a:rPr b="0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games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played by each group of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× </a:t>
            </a:r>
            <a:r>
              <a:rPr b="0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/ 2 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210 possible doubles match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i="1" lang="en-NZ" sz="2000" spc="-1" strike="noStrike">
                <a:solidFill>
                  <a:srgbClr val="ff0000"/>
                </a:solidFill>
                <a:latin typeface="Arial"/>
              </a:rPr>
              <a:t>Q:Why divide by 2?   A: Because whenever you select </a:t>
            </a:r>
            <a:r>
              <a:rPr b="0" i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one</a:t>
            </a:r>
            <a:r>
              <a:rPr b="0" i="1" lang="en-NZ" sz="2000" spc="-1" strike="noStrike">
                <a:solidFill>
                  <a:srgbClr val="ff0000"/>
                </a:solidFill>
                <a:latin typeface="Arial"/>
              </a:rPr>
              <a:t> pair from each 4, you are also selecting </a:t>
            </a:r>
            <a:r>
              <a:rPr b="0" i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another</a:t>
            </a:r>
            <a:r>
              <a:rPr b="0" i="1" lang="en-NZ" sz="2000" spc="-1" strike="noStrike">
                <a:solidFill>
                  <a:srgbClr val="ff0000"/>
                </a:solidFill>
                <a:latin typeface="Arial"/>
              </a:rPr>
              <a:t> of the pairs – the other 2.  Hence by going </a:t>
            </a:r>
            <a:r>
              <a:rPr b="0" i="1" lang="en-NZ" sz="20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i="1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i="1" lang="en-NZ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NZ" sz="2000" spc="-1" strike="noStrike">
                <a:solidFill>
                  <a:srgbClr val="ff0000"/>
                </a:solidFill>
                <a:latin typeface="Arial"/>
              </a:rPr>
              <a:t> we actually get </a:t>
            </a:r>
            <a:r>
              <a:rPr b="0" i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twice</a:t>
            </a:r>
            <a:r>
              <a:rPr b="0" i="1" lang="en-NZ" sz="2000" spc="-1" strike="noStrike">
                <a:solidFill>
                  <a:srgbClr val="ff0000"/>
                </a:solidFill>
                <a:latin typeface="Arial"/>
              </a:rPr>
              <a:t> the number of possible doubles ga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609480"/>
            <a:ext cx="883944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6.  (</a:t>
            </a: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Australian Mathematics Comp. type probl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2 people decide to play volleyball.  In how many ways can they be split up into two equal team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umber of possible teams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(number of possible selections of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6 from 12)  /  2. 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12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6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/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924  /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462 possible ways of splitting into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teams of 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* </a:t>
            </a:r>
            <a:r>
              <a:rPr b="0" i="1" lang="en-NZ" sz="2000" spc="-1" strike="noStrike">
                <a:solidFill>
                  <a:srgbClr val="ff0000"/>
                </a:solidFill>
                <a:latin typeface="Arial"/>
              </a:rPr>
              <a:t>Q:  Why divide by 2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i="1" lang="en-NZ" sz="2000" spc="-1" strike="noStrike">
                <a:solidFill>
                  <a:srgbClr val="ff0000"/>
                </a:solidFill>
                <a:latin typeface="Arial"/>
              </a:rPr>
              <a:t>A:  Because the question asks how many ways there are off </a:t>
            </a:r>
            <a:r>
              <a:rPr b="1" i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splitting</a:t>
            </a:r>
            <a:r>
              <a:rPr b="0" i="1" lang="en-NZ" sz="2000" spc="-1" strike="noStrike">
                <a:solidFill>
                  <a:srgbClr val="ff0000"/>
                </a:solidFill>
                <a:latin typeface="Arial"/>
              </a:rPr>
              <a:t> the 12 people into 2 teams,  not how many possible te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NZ" sz="2000" spc="-1" strike="noStrike">
                <a:solidFill>
                  <a:srgbClr val="ff0000"/>
                </a:solidFill>
                <a:latin typeface="Arial"/>
              </a:rPr>
              <a:t>Every time you split it, you get 2 te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Sigma: Ex 8.03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52280" y="609480"/>
            <a:ext cx="883944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7.  (</a:t>
            </a: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Australian Mathematics Comp. type probl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In how many ways can 10 different items be split up into two unequal se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umber of possible unequal sets (i.e. every possible number except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10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10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10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10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10 + 45  +   120 +  2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385 possible ways of splitting them into two unequal s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*sets of 6 or more are already covered  - e.g. you automatically select a set of 6 when you select 4 from 10, and a set of 7 when you select 3 from 10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Sigma: Ex 8.03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52280" y="609480"/>
            <a:ext cx="883944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18. The Department of Foreign Affairs has trained 30 linguists, 16 of whom are to be assigned to Germany and 14 to Fr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NZ" sz="2000" spc="-1" strike="noStrike">
                <a:solidFill>
                  <a:srgbClr val="000000"/>
                </a:solidFill>
                <a:latin typeface="Arial"/>
              </a:rPr>
              <a:t>(NCEA Merit lev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If 8 of the linguists refuse to go to France, in how many ways can the 30 linguists be assign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The 8 who won’t go to France MUST go to Germany  (fixe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So there are 22 people left.  Must select 8 for the remaining German positions. By doing this you automatically select the other 14 for Fr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umber of possible ways of selecting 8 from 22 to fill the remaining German positions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22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8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(same answer if you go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 22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14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for Fr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319 770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Arial"/>
              </a:rPr>
              <a:t>(NCEA Excellence lev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If, in addition to the 8 who refuse to go to France, 10 refuse to go to Germany, how many ways are there of assigning the 30 linguis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Sigma: Ex 8.03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52280" y="609480"/>
            <a:ext cx="883944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18. </a:t>
            </a:r>
            <a:r>
              <a:rPr b="1" i="1" lang="en-NZ" sz="2000" spc="-1" strike="noStrike">
                <a:solidFill>
                  <a:srgbClr val="000000"/>
                </a:solidFill>
                <a:latin typeface="Arial"/>
              </a:rPr>
              <a:t>(NCEA Excellence lev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he Department of Foreign Affairs has trained 30 linguists, 16 of whom are to be assigned to Germany and 14 to Fr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If, in addition to the 8 who refuse to go to France, 10 refuse to go to Germany, how many ways are there of assigning the 30 linguis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The 8 who won’t go to France MUST go to Germany  (fixe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The 10 who won’t go to Germany MUST go to France (fixe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So there are 12 people left  (30 – 8 – 10 = 1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Must select 8 for the remaining German positions. By doing this you automatically select the other 4 for Fr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umber of possible ways of selecting 8 from 12 to fill the remaining German positions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12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8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(same answer if you go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 12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for Fr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495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Sigma: Ex 8.03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Ex. 8.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age 1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59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6. Museum: 149 Maori artifacts.  Selects 3 each month.  How many selections po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In factorial for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4"/>
              <p:cNvSpPr txBox="1"/>
              <p:nvPr/>
            </p:nvSpPr>
            <p:spPr>
              <a:xfrm>
                <a:off x="1187280" y="2276640"/>
                <a:ext cx="2749680" cy="85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" name="Text Box 5"/>
          <p:cNvSpPr/>
          <p:nvPr/>
        </p:nvSpPr>
        <p:spPr>
          <a:xfrm>
            <a:off x="470160" y="34606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6"/>
              <p:cNvSpPr txBox="1"/>
              <p:nvPr/>
            </p:nvSpPr>
            <p:spPr>
              <a:xfrm>
                <a:off x="1092240" y="3228840"/>
                <a:ext cx="29829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9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49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Rectangle 7"/>
          <p:cNvSpPr/>
          <p:nvPr/>
        </p:nvSpPr>
        <p:spPr>
          <a:xfrm>
            <a:off x="533520" y="5229360"/>
            <a:ext cx="536724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As an ordinary numb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baseline="30000">
                <a:solidFill>
                  <a:srgbClr val="ff0000"/>
                </a:solidFill>
                <a:latin typeface="Arial"/>
              </a:rPr>
              <a:t>149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= 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540 274 possible sel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1"/>
              <p:cNvSpPr txBox="1"/>
              <p:nvPr/>
            </p:nvSpPr>
            <p:spPr>
              <a:xfrm>
                <a:off x="1908000" y="4221000"/>
                <a:ext cx="155736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9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46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Sigma: Ex 8.03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7. Couple has 13 friends; invites a different 4 each week.  How long to the nearest year till all possible groups selec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Selecting 4 from 13 each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umber poss. selections =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</a:rPr>
              <a:t>13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= 7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So 715 weeks till all possible groups of 4 invi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52 weeks in a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br years = 715 ÷ 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= 13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14 years (to nearest y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Sigma: Ex 8.03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8. There are 12 shirts on sale.  A man wants to buy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ow many poss. choi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br poss. selections =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</a:rPr>
              <a:t>12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792 choice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f 2 are too expens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ow selecting 5 from only 10 (2 ruled out).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br poss. selections =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</a:rPr>
              <a:t>10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252 choice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f he damages 1 so must buy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He MUST buy the 1 he damaged (decision made), so now selecting 4 from the other 11.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br poss. selections =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</a:rPr>
              <a:t>11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330 choice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52280" y="609480"/>
            <a:ext cx="883944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9. How many selections of at least 2 objects can be made from 5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AT LEAST 2 means selections of 2, 3, 4 or 5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br selections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+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3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+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4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+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26 possible sele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10. 6 points on a circle.  Any 2 can be jo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How many different chords can be form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There can be a chord between ANY 2 of the 6 points.  Think of as pairs of points (i.e. selections of 2 items from 6).  </a:t>
            </a:r>
            <a:r>
              <a:rPr b="0" i="1" lang="en-NZ" sz="2000" spc="-1" strike="noStrike">
                <a:solidFill>
                  <a:srgbClr val="ff0000"/>
                </a:solidFill>
                <a:latin typeface="Arial"/>
              </a:rPr>
              <a:t>Draw a circle and try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What the Q is really asking:  How many possible selections of 2 can be made from the 6 poi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Answer: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15 possible chords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How many possible segm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Each chord in a circle forms 2 segments – one on each 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So nbr of segments = 2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× nbr of ch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2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×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30 segments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Sigma: Ex 8.03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52280" y="609480"/>
            <a:ext cx="883944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11. There are 7 candidates.  Can vote for up to 3 candidates for 3 vacancies.  In how many ways can a vote be ca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an vote for UP TO 3 candidates, so can also vote for just 1 candidate or for 2 candid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br poss. selections of 1, 2 or 3 from 7 =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7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7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7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63 ways of 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a valid vote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Sigma: Ex 8.03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52280" y="609480"/>
            <a:ext cx="883944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12. Elections are to be held for the School Common Room Committee.  Five students are to be elected.  The candidates are six female students and seven male stu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How many distinct committees can be elec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There are 13 candidates in total.  In how many ways can 5 be selec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13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1287 distinct committees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How many distinct committees with two female and three male students can be elec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There are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ways of selecting 2 female students from 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There are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7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ways of selecting 3 male students from 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br poss. selections with 2F &amp; 3M students = 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7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525 distinct committees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Sigma: Ex 8.03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52280" y="609480"/>
            <a:ext cx="883944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13. A class of 12 students and a teacher are to go on a class trip.  A car will take four of the party, and the rest will go by bus.  In how many different ways can they all go on the trip i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he teacher must go by c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The teacher is in the car (fixed) so 3 spots in car remai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So we’re selecting 3 of the 12 students to go in the car with the teac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umber of possible combinations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12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3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(same as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12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9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for b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 2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he teacher must go by b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The teacher is in the bus (fixed) so 8 spots in the bus remai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So we’re selecting 8 of the 12 students to go in the bus with the teac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umber of possible combinations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12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8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(same as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12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for b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 4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Sigma: Ex 8.03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03:37:48Z</dcterms:created>
  <dc:creator>Jeremy Brocklehurst</dc:creator>
  <dc:description/>
  <dc:language>en-US</dc:language>
  <cp:lastModifiedBy>Jeremy Brocklehurst</cp:lastModifiedBy>
  <dcterms:modified xsi:type="dcterms:W3CDTF">2011-04-04T18:46:53Z</dcterms:modified>
  <cp:revision>46</cp:revision>
  <dc:subject>Year 13 Statistics &amp; Modelling</dc:subject>
  <dc:title>Sigma solutions</dc:title>
</cp:coreProperties>
</file>